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8AB5A-EE05-4E19-A02A-2C06FDC6E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2328E-6A44-4B20-BEF8-E71DE166A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ED1C-CF94-4875-AC22-E24665FF6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9C1C-5435-46C3-8159-119B921D3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9B38-73AB-4DFB-BBAB-553A5D061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8926-EB93-44CA-B435-8656FF7E6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0338-092A-4A0E-A5D4-9F342D0D5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E78D-0A9D-40E3-938E-0D30E3124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A729-9A09-4BFE-B37B-1B7EC2C62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769A-F6CD-4932-A42B-0EE724D4B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599B-0430-436D-9CD3-3C34BA165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E212-7A00-4B80-98F8-03E8A132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550E-7BEC-4147-BD32-FBFF2D83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91A2-4234-4202-87FC-B8F88EFB9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84E55-991C-497A-9DE5-34C4A5ED7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armela Cunso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rmela Cunso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Carmela Cunsolo 1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Carmela Cunsolo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Carmela Cunsol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6705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228600" y="47242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31680" y="563868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Kellin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657600"/>
            <a:ext cx="1752840" cy="10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i nombre es Carmela. Vivo en New York. Tengo catorce anos. Tengo una hermana, Charlotte. Yo soy inteligente. Soy feliz y sympatica. Adios Amigas!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762120" y="563868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min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4"/>
          <p:cNvSpPr/>
          <p:nvPr/>
        </p:nvSpPr>
        <p:spPr>
          <a:xfrm>
            <a:off x="152280" y="64008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6"/>
          <p:cNvSpPr/>
          <p:nvPr/>
        </p:nvSpPr>
        <p:spPr>
          <a:xfrm flipH="1">
            <a:off x="1371600" y="5486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iar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743200" y="3886200"/>
            <a:ext cx="39625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soy bonita!                                                                                       </a:t>
            </a:r>
            <a:r>
              <a:rPr b="1" lang="es-ES_tradnl" sz="900" spc="-1" strike="noStrike">
                <a:solidFill>
                  <a:srgbClr val="343434"/>
                </a:solidFill>
                <a:latin typeface="Arial"/>
              </a:rPr>
              <a:t>Kia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743200" y="3276720"/>
            <a:ext cx="39625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tardes! Donde estas?                                                              </a:t>
            </a: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Ami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743200" y="2514600"/>
            <a:ext cx="3962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</a:t>
            </a:r>
            <a:r>
              <a:rPr b="1" lang="es-ES_tradnl" sz="900" spc="-1" strike="noStrike">
                <a:solidFill>
                  <a:srgbClr val="343434"/>
                </a:solidFill>
                <a:latin typeface="Arial"/>
              </a:rPr>
              <a:t>…                                                                        Kellin Fuent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Carmela! Son bien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743200" y="4572000"/>
            <a:ext cx="39625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743200" y="5181480"/>
            <a:ext cx="41148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2" descr="Photo on 2011-10-21 at 13.46.jpg"/>
          <p:cNvPicPr/>
          <p:nvPr/>
        </p:nvPicPr>
        <p:blipFill>
          <a:blip r:embed="rId1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6"/>
          <p:cNvSpPr/>
          <p:nvPr/>
        </p:nvSpPr>
        <p:spPr>
          <a:xfrm>
            <a:off x="2819520" y="19051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Buenos Dias! Como estas amigo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3" descr="Photo on 2011-11-29 at 13.54.jpg"/>
          <p:cNvPicPr/>
          <p:nvPr/>
        </p:nvPicPr>
        <p:blipFill>
          <a:blip r:embed="rId2"/>
          <a:stretch/>
        </p:blipFill>
        <p:spPr>
          <a:xfrm>
            <a:off x="838080" y="594360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95" name="TextBox 62"/>
          <p:cNvSpPr/>
          <p:nvPr/>
        </p:nvSpPr>
        <p:spPr>
          <a:xfrm>
            <a:off x="790560" y="64008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Screen Shot 2012-12-05 at 9.47.28 AM.png"/>
          <p:cNvPicPr/>
          <p:nvPr/>
        </p:nvPicPr>
        <p:blipFill>
          <a:blip r:embed="rId3"/>
          <a:stretch/>
        </p:blipFill>
        <p:spPr>
          <a:xfrm>
            <a:off x="2057400" y="25146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Screen Shot 2012-12-05 at 9.50.59 AM.png"/>
          <p:cNvPicPr/>
          <p:nvPr/>
        </p:nvPicPr>
        <p:blipFill>
          <a:blip r:embed="rId4"/>
          <a:stretch/>
        </p:blipFill>
        <p:spPr>
          <a:xfrm>
            <a:off x="2057400" y="3200400"/>
            <a:ext cx="609480" cy="533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Screen Shot 2012-12-05 at 9.47.28 AM.png"/>
          <p:cNvPicPr/>
          <p:nvPr/>
        </p:nvPicPr>
        <p:blipFill>
          <a:blip r:embed="rId5"/>
          <a:stretch/>
        </p:blipFill>
        <p:spPr>
          <a:xfrm>
            <a:off x="76320" y="5029200"/>
            <a:ext cx="588960" cy="609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Screen Shot 2012-12-05 at 9.50.59 AM.png"/>
          <p:cNvPicPr/>
          <p:nvPr/>
        </p:nvPicPr>
        <p:blipFill>
          <a:blip r:embed="rId6"/>
          <a:stretch/>
        </p:blipFill>
        <p:spPr>
          <a:xfrm>
            <a:off x="762120" y="5029200"/>
            <a:ext cx="531720" cy="609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Screen Shot 2012-12-05 at 9.56.33 AM.png"/>
          <p:cNvPicPr/>
          <p:nvPr/>
        </p:nvPicPr>
        <p:blipFill>
          <a:blip r:embed="rId7"/>
          <a:stretch/>
        </p:blipFill>
        <p:spPr>
          <a:xfrm>
            <a:off x="2057400" y="3809880"/>
            <a:ext cx="609480" cy="533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Screen Shot 2012-12-05 at 9.56.33 AM.png"/>
          <p:cNvPicPr/>
          <p:nvPr/>
        </p:nvPicPr>
        <p:blipFill>
          <a:blip r:embed="rId8"/>
          <a:stretch/>
        </p:blipFill>
        <p:spPr>
          <a:xfrm>
            <a:off x="1371600" y="5029200"/>
            <a:ext cx="533520" cy="6094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Screen Shot 2012-12-07 at 9.32.04 AM.png"/>
          <p:cNvPicPr/>
          <p:nvPr/>
        </p:nvPicPr>
        <p:blipFill>
          <a:blip r:embed="rId9"/>
          <a:stretch/>
        </p:blipFill>
        <p:spPr>
          <a:xfrm>
            <a:off x="228600" y="685800"/>
            <a:ext cx="1447920" cy="1784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Screen Shot 2012-12-07 at 9.32.04 AM.png"/>
          <p:cNvPicPr/>
          <p:nvPr/>
        </p:nvPicPr>
        <p:blipFill>
          <a:blip r:embed="rId10"/>
          <a:stretch/>
        </p:blipFill>
        <p:spPr>
          <a:xfrm>
            <a:off x="2133720" y="4419720"/>
            <a:ext cx="49536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cp:lastPrinted>2012-12-07T14:55:48Z</cp:lastPrinted>
  <dcterms:modified xsi:type="dcterms:W3CDTF">2012-12-07T14:56:11Z</dcterms:modified>
  <cp:revision>109</cp:revision>
  <dc:subject/>
  <dc:title>Profile</dc:title>
</cp:coreProperties>
</file>